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740C-7AB8-4862-9CB2-C7F2E619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490-EFFF-4CC4-8121-DABB795E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1FB-7E10-4B88-90A3-54293B24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E69-F5DF-43E6-88C2-6B2C6EC1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C65A-7270-46AD-841C-698E86E0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DB5F-ECB6-460D-896A-32046881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0240-F2FB-4A6D-83C6-EA836AC6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EB0B-7D46-473E-A531-371A1EF8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847C-0F9C-469D-8DF9-8707302A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717E-E8AE-4056-9A66-2C33D96D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2A3A-B8A5-4F2D-A8B1-E9223E0D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4B8-1FDA-4D46-86AF-1EE7EEFF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58D5-8D2A-4FF2-9129-75305A44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12D2-6CD0-4FEC-987F-99572F35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4343-01A8-4FEB-AE73-FC2ECDC0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EC86-07B3-4054-B6D8-8EFF76A6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3E40-D5C8-4C4F-9CBD-022DDC0B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EB6-BD57-404A-86C6-0E74AE71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D8C-AFEE-41F1-9E13-5987B90B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2A6-0B03-4578-95ED-503E29AE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2A0-599A-4776-B6EE-487A9ED0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5142-2D05-4BD7-A550-F8755AC3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7EB-917D-4DB5-B11F-81B2B3D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88B-5FA9-47B3-99F7-BAA8F90B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D553-C18D-4FE5-A937-39C207402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CC2E-B1F3-44FD-9CF9-12A83FDC9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Configuración de interfase inalámb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ón básica, WDS, Virtual AP, N-Str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face-type=Atheros AR52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hip-info="mac:0x5/0x6, phy:0x41, a5:0x17, a2:0x23, eeprom:0x3004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x-power-control=yes ack-timeout-control=yes alignment-mode=yes virtual-aps=yes noise-floor-control=yes scan-support=yes burst-support=yes nstreme-support=yes default-periodic-calibration=enabled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ported-bands=2ghz-b,5ghz,5ghz-turbo,2ghz-g,2ghz-g-turbo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b-channels=2412,2417,2422,2427,2432,2437,2442,2447,2452,2457,2462,2467,2472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ghz-channels=5180,5200,5220,5240,5260,5280,5300,5320,5745,5765,5785,5805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ghz-turbo-channels=5210,5250,5290,5760,5800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g-channels=2412,2417,2422,2427,2432,2437,2442,2447,2452,2457,2462,2467,2472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ghz-g-turbo-channels=2412,2417,2422,2427,2432,2437,2442,2447,2452,2457,2462,2467,24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453708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tatus: connected-to-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sid: Mikro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ssid: 00:0B:6B:31:63: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adio-name: 000B6B3163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gnal-strength: 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signal-strength: 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x-ccq: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x-ccq: 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wds-link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streme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raming-mode: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uteros-version: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st-ip: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148428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running-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-tx-ccq: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ed-clients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bla de registro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# INT...   RADIO-NAME     MAC-ADDRESS     AP  SIGNAL... TX-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wlan1  000B6B31635D   00:0B:6B:31:63:5D yes -41            54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disticas desde la tabla de regist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=wlan1 radio-name="000B6B31635D" mac-address=00:0B:6B:31:63:5D ap=yes wds=no rx-rate=54Mbps tx-rate=54Mbps packets=15009,18686 bytes=20751659,26806208 frames=15009,18740 frame-bytes=20751659,26807013 hw-frames=15009,18750 hw-frame-bytes=21111875,27257053 uptime=02:14:06 last-activity=00:00:00.040 signal-strength=-44 tx-signal-strength=-52 tx-ccq=27 rx-ccq=66 ack-timeout=56 distance=56 nstreme=no framing-mode=none routeros-version="2.8.16" last-ip=1.1.1.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ramienta de scaneo de re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DRESS             SSID          BAND     FREQ BSS PRI SIGNAL-S... ROU NST FAS RAD...   ROU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2:6F:32:43:AA dzi             2.4ghz-b  2412  yes   no   -54                no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B:6B:33:0D:4F PC_PO...  2.4ghz-b  2412  yes   no   -68                yes   no    no    000...    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90:4B:19:A5:E4 spa            2.4ghz-g  2437  yes   no   -51                no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0:0B:6B:31:02:4B wtest         2.4ghz-g  2442  yes   no   -58                yes   no    no    AP_172 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de 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face wireless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0 name="wlan1" security=required algo-0=40-bit-wep key-0=“0123456789" algo-1=none key-1="" algo-2=none key-2="" algo-3=none key-3="" transmit-key=key-0 sta-private-algo=none sta-private-key="" radius-mac-authentication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porta 40bit-WEP(64bit), 104bit-WEP(128), AES-C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144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conexión con el AP: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si tu ves el AP cuando haces scan, estando seguro que la frecuencia del AP este incluida en el scan-list, que estes usando la banda correcta y checa la opción de default-forwa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44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 rendimiento o desconexión en el enlace inalámbr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heca la senal (recomendado minimo -75), interferencia – usa canal diferente, trata con los defaults de la tarjeta inalámbrica (tx-power, ack-timeout, rate-set, etc), checa la opción de power-calib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 de Distribución Inalámbrica (W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 (Wireless Distribution System) permite a los paquetes pasar desde un AP a otro, tal como si ambos fueran puertos de un switch Ethern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b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s deben usar el mismo standard (802.11a, 802.11b o 802.11g)  y trabajar sobre las mismas frecuencias para poderse conectar entr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 es usado para hacer redes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ntead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 través del medio inalámbrico y extender el rango de la red inalámb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422100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27280" y="270828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566100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407664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52" idx="5"/>
            <a:endCxn id="253" idx="2"/>
          </p:cNvCxnSpPr>
          <p:nvPr/>
        </p:nvCxnSpPr>
        <p:spPr>
          <a:xfrm flipV="1">
            <a:off x="1114560" y="3157200"/>
            <a:ext cx="151344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7" name=""/>
          <p:cNvCxnSpPr>
            <a:stCxn id="252" idx="5"/>
            <a:endCxn id="255" idx="2"/>
          </p:cNvCxnSpPr>
          <p:nvPr/>
        </p:nvCxnSpPr>
        <p:spPr>
          <a:xfrm>
            <a:off x="1114560" y="4490640"/>
            <a:ext cx="1513440" cy="35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8" name=""/>
          <p:cNvCxnSpPr>
            <a:stCxn id="252" idx="5"/>
            <a:endCxn id="254" idx="2"/>
          </p:cNvCxnSpPr>
          <p:nvPr/>
        </p:nvCxnSpPr>
        <p:spPr>
          <a:xfrm>
            <a:off x="1114560" y="4491000"/>
            <a:ext cx="1513440" cy="16200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6659640" y="4149720"/>
            <a:ext cx="71892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83640" y="5661000"/>
            <a:ext cx="71892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62560" y="2708280"/>
            <a:ext cx="719280" cy="71928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9" idx="4"/>
            <a:endCxn id="260" idx="1"/>
          </p:cNvCxnSpPr>
          <p:nvPr/>
        </p:nvCxnSpPr>
        <p:spPr>
          <a:xfrm>
            <a:off x="7199280" y="4599000"/>
            <a:ext cx="954720" cy="124200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63" name=""/>
          <p:cNvCxnSpPr>
            <a:stCxn id="261" idx="4"/>
            <a:endCxn id="259" idx="1"/>
          </p:cNvCxnSpPr>
          <p:nvPr/>
        </p:nvCxnSpPr>
        <p:spPr>
          <a:xfrm>
            <a:off x="5901840" y="3157560"/>
            <a:ext cx="1027800" cy="117216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24000" y="177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64000" y="1773360"/>
            <a:ext cx="32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ENA o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522936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278136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472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4472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7002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177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68" idx="3"/>
            <a:endCxn id="267" idx="1"/>
          </p:cNvCxnSpPr>
          <p:nvPr/>
        </p:nvCxnSpPr>
        <p:spPr>
          <a:xfrm>
            <a:off x="953640" y="349992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4" name=""/>
          <p:cNvCxnSpPr>
            <a:stCxn id="267" idx="4"/>
            <a:endCxn id="269" idx="2"/>
          </p:cNvCxnSpPr>
          <p:nvPr/>
        </p:nvCxnSpPr>
        <p:spPr>
          <a:xfrm>
            <a:off x="1224000" y="5678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5" name=""/>
          <p:cNvCxnSpPr>
            <a:stCxn id="269" idx="1"/>
            <a:endCxn id="270" idx="3"/>
          </p:cNvCxnSpPr>
          <p:nvPr/>
        </p:nvCxnSpPr>
        <p:spPr>
          <a:xfrm flipV="1">
            <a:off x="3114360" y="349956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76" name=""/>
          <p:cNvCxnSpPr>
            <a:stCxn id="268" idx="4"/>
            <a:endCxn id="270" idx="2"/>
          </p:cNvCxnSpPr>
          <p:nvPr/>
        </p:nvCxnSpPr>
        <p:spPr>
          <a:xfrm>
            <a:off x="1224000" y="3230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536400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6400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5229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24720" y="2781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78" idx="3"/>
            <a:endCxn id="277" idx="1"/>
          </p:cNvCxnSpPr>
          <p:nvPr/>
        </p:nvCxnSpPr>
        <p:spPr>
          <a:xfrm>
            <a:off x="5633640" y="349992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>
            <a:stCxn id="277" idx="4"/>
            <a:endCxn id="279" idx="2"/>
          </p:cNvCxnSpPr>
          <p:nvPr/>
        </p:nvCxnSpPr>
        <p:spPr>
          <a:xfrm>
            <a:off x="5904000" y="5678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9" idx="1"/>
            <a:endCxn id="280" idx="3"/>
          </p:cNvCxnSpPr>
          <p:nvPr/>
        </p:nvCxnSpPr>
        <p:spPr>
          <a:xfrm flipV="1">
            <a:off x="7794360" y="3499560"/>
            <a:ext cx="1080" cy="1909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78" idx="4"/>
            <a:endCxn id="280" idx="2"/>
          </p:cNvCxnSpPr>
          <p:nvPr/>
        </p:nvCxnSpPr>
        <p:spPr>
          <a:xfrm>
            <a:off x="5904000" y="323028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5" name=""/>
          <p:cNvCxnSpPr>
            <a:stCxn id="278" idx="4"/>
            <a:endCxn id="279" idx="1"/>
          </p:cNvCxnSpPr>
          <p:nvPr/>
        </p:nvCxnSpPr>
        <p:spPr>
          <a:xfrm>
            <a:off x="5904000" y="3230640"/>
            <a:ext cx="1891440" cy="217872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77" idx="1"/>
            <a:endCxn id="280" idx="2"/>
          </p:cNvCxnSpPr>
          <p:nvPr/>
        </p:nvCxnSpPr>
        <p:spPr>
          <a:xfrm flipV="1">
            <a:off x="5634000" y="3230280"/>
            <a:ext cx="1891440" cy="217872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 dinámico o estático en el Rou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ná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mode=dynamic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default-bridge=bridg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mode=static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 wireless wds&gt;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ds-address=00:0B:6B:31:63:5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ster-interface=wla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3645000"/>
            <a:ext cx="84358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ssid=AP1 frequency=2442 band=2.4ghz-b/g mode=ap-bridge disabled=n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C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ssid=AP1 band=2.4ghz-b/g mode=station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1413000"/>
            <a:ext cx="71892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43640" y="2492280"/>
            <a:ext cx="79236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2492280"/>
            <a:ext cx="79236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2492280"/>
            <a:ext cx="792000" cy="79236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7" idx="7"/>
            <a:endCxn id="215" idx="2"/>
          </p:cNvCxnSpPr>
          <p:nvPr/>
        </p:nvCxnSpPr>
        <p:spPr>
          <a:xfrm flipV="1">
            <a:off x="2224080" y="1861920"/>
            <a:ext cx="1843920" cy="746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16" idx="1"/>
            <a:endCxn id="215" idx="4"/>
          </p:cNvCxnSpPr>
          <p:nvPr/>
        </p:nvCxnSpPr>
        <p:spPr>
          <a:xfrm flipH="1" flipV="1">
            <a:off x="4606920" y="1861920"/>
            <a:ext cx="1953000" cy="74664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18" idx="0"/>
            <a:endCxn id="215" idx="3"/>
          </p:cNvCxnSpPr>
          <p:nvPr/>
        </p:nvCxnSpPr>
        <p:spPr>
          <a:xfrm flipV="1">
            <a:off x="4321080" y="2131200"/>
            <a:ext cx="165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43588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una interfase bridge en ambos AP’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add name=bridge1 disabled=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ada la Ethernet local al bridge en ambos AP’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port set ether1 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e los 2 equipos como AP’s y habilite WDS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mode=ap-bridge band=5ghz frequency=5300 wds-mode=dynamic wds-default-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24360" y="1773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7640" y="1773360"/>
            <a:ext cx="719280" cy="71892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1844640"/>
            <a:ext cx="1152360" cy="72072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24720" y="1844640"/>
            <a:ext cx="1152720" cy="720720"/>
          </a:xfrm>
          <a:prstGeom prst="ellipse">
            <a:avLst/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2" idx="4"/>
            <a:endCxn id="291" idx="2"/>
          </p:cNvCxnSpPr>
          <p:nvPr/>
        </p:nvCxnSpPr>
        <p:spPr>
          <a:xfrm>
            <a:off x="3526920" y="2222280"/>
            <a:ext cx="21978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92" idx="2"/>
            <a:endCxn id="293" idx="6"/>
          </p:cNvCxnSpPr>
          <p:nvPr/>
        </p:nvCxnSpPr>
        <p:spPr>
          <a:xfrm flipH="1" flipV="1">
            <a:off x="1763280" y="2204280"/>
            <a:ext cx="122472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91" idx="4"/>
            <a:endCxn id="294" idx="2"/>
          </p:cNvCxnSpPr>
          <p:nvPr/>
        </p:nvCxnSpPr>
        <p:spPr>
          <a:xfrm flipV="1">
            <a:off x="6264000" y="2204280"/>
            <a:ext cx="126108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38862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lace 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reless Distribu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hacer lo mismo pero usando el modo estático, hay que hacer los siguientes cambios en ambos rute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ifique la configuración de la interfase inalambrica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 wds-mode=static wds-default-bridge=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e una interfase estática  WDS y especifique la direccion mac del radio remoto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wds add name=wds master-interface=wlan1 wds-address=xx:xx:xx:xx:xx:xx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la interfase WDS al bridge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bridge port set wds bridge=bridg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 Vir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name="wlan2" mtu=1500 mac-address=00:0B:6B:31:05:7C arp=enabled disable-running-check=no interface-type=virtual-AP master-interface=wlan1 ssid="MikroTik" max-station-count=2007 default-authentication=yes default-forwarding=yes hide-ssid=no 802.1x-mode=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ones principales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master-interfac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en cual interfase 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cionando el AP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4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Nombre de la red para el AP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ocolo inalámbrico propietario de MikroTik (incompatible con otros fabricantes) creado para optimizar enlaces inalámbricos punto-punto y p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-multip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streme2 (Dual) trabaja con un par de tarjetas inalámbricas (tarjetas con chipset Atheros solamente) – una para transmitir y otra para recib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neficios del protoco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y bajo “overhead” por frame, permitiendo super altas velocidades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limite por distancia por protoco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degradación de velocidad debido a protocolo en enlaces lar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juste dinámico del protocolo, dependiendo del tipo de trafico y el uso de los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habilitar N-streme debes tener un enlace inalámbrico activo y después habilitar N-Streme en ambos ruteadores en la configuración de la tarjeta inalámbr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nterface wireless nstreme set wlan1 enable-nstreme=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tu quieres incrementar el rendimiento del enlace, necesitas especificar algún tipo de política de frames, por default ninguna esta habili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nterface wireless nstreme set wlan1 framer-policy=dynamic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hora la tarjeta inalámbrica tratara de incrementar el rendimiento mandando frames mas grandes – construirá frames mas grandes añadiendo paquetes múltiples en cada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colo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N-Str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280" y="1413000"/>
            <a:ext cx="4537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connected-to-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x-rate: 5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sid: MikroT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ssid: 00:0B:6B:31:63: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dio-name: 000B6B31635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gnal-strength: -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signal-strength: -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x-ccq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x-ccq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ds-link: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ing-mod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exact-size</a:t>
            </a:r>
            <a:br>
              <a:rPr sz="1400"/>
            </a:b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framing-limit: 3200</a:t>
            </a:r>
            <a:br>
              <a:rPr sz="1400"/>
            </a:b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framing-current-size: 2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eros-version: 2.8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st-ip: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1339920"/>
            <a:ext cx="36720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us: running-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d: 2.4ghz-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equency: 24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verall-tx-ccq: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istered-clients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ack-timeout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rrent-distance: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streme: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lv-LV" sz="1400" spc="-1" strike="noStrike">
                <a:solidFill>
                  <a:srgbClr val="000000"/>
                </a:solidFill>
                <a:latin typeface="Arial"/>
                <a:ea typeface="Arial"/>
              </a:rPr>
              <a:t>polling: 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560" y="4005000"/>
            <a:ext cx="889308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ción del radio en Full-duple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os ruteadores tien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jetas inalámbr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1: wlan1 – solo recibe; wlan2 – solo transm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2: wlan1 – solo transmite; wlan2 – solo rec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92360" y="2127240"/>
            <a:ext cx="792000" cy="792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1080" y="2127240"/>
            <a:ext cx="792360" cy="792000"/>
          </a:xfrm>
          <a:prstGeom prst="cube">
            <a:avLst>
              <a:gd name="adj" fmla="val 25000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987640" y="1622520"/>
            <a:ext cx="287280" cy="64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87640" y="2990880"/>
            <a:ext cx="287280" cy="64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4" idx="0"/>
            <a:endCxn id="316" idx="1"/>
          </p:cNvCxnSpPr>
          <p:nvPr/>
        </p:nvCxnSpPr>
        <p:spPr>
          <a:xfrm flipH="1" flipV="1" rot="5400000">
            <a:off x="2497680" y="1637280"/>
            <a:ext cx="18000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 flipH="1">
            <a:off x="5653080" y="1622520"/>
            <a:ext cx="287280" cy="649080"/>
          </a:xfrm>
          <a:custGeom>
            <a:avLst/>
            <a:gdLst>
              <a:gd name="textAreaLeft" fmla="*/ 183960 w 287280"/>
              <a:gd name="textAreaRight" fmla="*/ 28800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653080" y="2990880"/>
            <a:ext cx="287280" cy="649080"/>
          </a:xfrm>
          <a:custGeom>
            <a:avLst/>
            <a:gdLst>
              <a:gd name="textAreaLeft" fmla="*/ 183960 w 287280"/>
              <a:gd name="textAreaRight" fmla="*/ 288000 w 287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5" idx="1"/>
            <a:endCxn id="319" idx="1"/>
          </p:cNvCxnSpPr>
          <p:nvPr/>
        </p:nvCxnSpPr>
        <p:spPr>
          <a:xfrm flipV="1" rot="16200000">
            <a:off x="6260040" y="1627200"/>
            <a:ext cx="38016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2" name=""/>
          <p:cNvSpPr/>
          <p:nvPr/>
        </p:nvSpPr>
        <p:spPr>
          <a:xfrm flipH="1">
            <a:off x="3203640" y="198288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03640" y="3351240"/>
            <a:ext cx="252072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16360" y="3567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35640" y="1328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08720" y="3567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16360" y="1335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14" idx="3"/>
            <a:endCxn id="317" idx="1"/>
          </p:cNvCxnSpPr>
          <p:nvPr/>
        </p:nvCxnSpPr>
        <p:spPr>
          <a:xfrm flipH="1" rot="16200000">
            <a:off x="2289600" y="2618280"/>
            <a:ext cx="397800" cy="9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5" idx="3"/>
            <a:endCxn id="320" idx="1"/>
          </p:cNvCxnSpPr>
          <p:nvPr/>
        </p:nvCxnSpPr>
        <p:spPr>
          <a:xfrm rot="5400000">
            <a:off x="6251760" y="2608920"/>
            <a:ext cx="39636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908000" y="162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43640" y="162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35280" y="3278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72360" y="32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w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en ambas tarjetas que use dual-nstreme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set wlan1,wlan2 mode=nstreme-dual-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ada una nueva interfase dual nstreme y configúrela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nstreme-dual add rx-radio=wlan1 tx-radio=wlan2 rx-band=5ghz-turbo tx-band=5ghz-turbo rx-frequency=5760 tx-frequency=5210 framer-policy=exact-size disabled=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que la dirección mac remota del otro radio que tiene el nstreme-dual: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nstreme-dual set n-streme1 remote-mac=xx:xx:xx:xx:xx: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tocolo N-Strem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x-quality: -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x-quality: -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x-rate: 48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x-rate: 54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nected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4221000"/>
            <a:ext cx="843588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as?: Si no hay conexión verifique la calidad de la conexion ,seguramente es menos que –95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e seguro de que los valores de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  de un ruteador sean iguales que los de 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  del otro(s) radio, si no es así es probable la desalineacion de ant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me="wlan1" mtu=1500 mac-address=00:0B:6B:31:05:7C arp=enabled  disable-running-check=no interface-type=Atheros AR5212 radio-name="000B6B31057C" mode=station ssid="MikroTik" frequency=4920 band=5ghz scan-list=default-ism rate-set=default supported-rates-b=1Mbps,2Mbps,5.5Mbps,11Mbps supported-rates-a/g=6Mbps,9Mbps,12Mbps,18Mbps,24Mbps,36Mbps,48Mbps, 54Mbps basic-rates-b=1Mbps basic-rates-a/g=6Mbps max-station-count=2007 ack-timeout=dynamic tx-power=default noise-floor-threshold=default periodic-calibration=default burst-time=disabled fast-frames=no dfs-mode=none antenna-mode=ant-a wds-mode=disabled wds-default-bridge=none wds-ignore-ssid=no update-stats-interval=disabled default-authentication=yes default-forwarding=yes hide-ssid=no 802.1x-mode=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os de configuracion: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tio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arjeta trabaja como cliente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tation-wd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cliente que sera “bridgeado”*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p-bridg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unto de Ac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bridg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unto de acceso con soporte de un cliente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lignment-only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modo para posicionar ant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streme-dual-slav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arjeta usada para tipo nstreme en modo dual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ds-slav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– trrabaja Punto de acceso , pero se adapta a la frecuencia de su “par” de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* AP debe soportar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figuracion de  banda: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5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a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5ghz-tu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a 108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b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b 11Mbps 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b/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b 11Mbps, 802.11g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only-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g 54Mbp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2.4ghz-g-turb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802.11g 108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frecuencia en la cual el punto de acceso trabaj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Nombre de la red inalámb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hide-ssid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el AP no propagara el nombre de la red al espa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tx-powe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otencia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smisión en decibeles , la cual puede ser modific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locidades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upported-ra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velocidades en las cuales la tarjeta inalámbrica puede trabajar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basic-ra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todos los nodos de la red inalámbrica deben soportar est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ate-set: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default y velocidades básicas serán usadas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configure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usara velocidades soportadas y básicas que estén especificadas en la config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efault-forwarding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ropiedad para habilitar o deshabilitar la comunicación a nivel de red entre los clientes del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default-authenticatio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propiedad para permitir la conexión solo a aquellos clientes que estén en las listas de acceso, este parámetro solo es aplicable al mod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Inalámbrica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scan-lis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cliente busca por un AP solo en las frecuencias incluidas, el valor por default “defaulr-ism” incluy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4ghz – 2412, 2417, 2422, 2427, 2432, 2437, 2442, 2447, 2452, 2457, 2462, 2467, 247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ghz – 5180, 5200, 5220, 5240, 5260, 5280, 5300, 5320, 5745, 5765, 5785, 58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ghz-turbo – 5210, 5250, 5290, 5760, 58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s adicionales pueden ser anadidas,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can-list=default-ism,5400-5500,5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7:45:57Z</dcterms:created>
  <dc:creator> Uldis</dc:creator>
  <dc:description/>
  <dc:language>en-US</dc:language>
  <cp:lastModifiedBy>Alfonso Urbina Araux</cp:lastModifiedBy>
  <dcterms:modified xsi:type="dcterms:W3CDTF">2006-02-24T15:34:14Z</dcterms:modified>
  <cp:revision>82</cp:revision>
  <dc:subject/>
  <dc:title>RouterOS Wireless Interface</dc:title>
</cp:coreProperties>
</file>